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263-DEDF-4159-AD4F-1C4DC210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FB4-A4B7-46A6-B8E5-1B8A8BD4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B89-BDCC-4A2B-9CFD-4B19E053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F06-F839-47E4-9E6D-00D43608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0147-C439-46C4-B66E-7CDF8C38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A185-1D24-4E0A-ADE3-B25E8A3F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3B53-7ED0-4FDB-8B08-E67B67E7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3B6E-10A1-4AFE-AD93-E128D870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7BC6-D275-4C68-9FAB-AB4C6700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D77D-4D13-4EEF-85CD-64EF5814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76C9-45F0-4C9A-8E50-E3FC2CF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6F7-3F2B-4223-A7D0-B644A6AE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A2F7-1433-4EAD-876C-49CCDDEB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E604-7BB8-42D8-807E-9A5B803D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D01D-95AB-44C3-A276-15F6977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D91C-29EE-4721-94EA-F7494133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13F9-E5E8-4682-B559-BF4EA367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CDC-71B2-47CD-897D-8054D728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5F8-09C4-4086-BB52-1D19DB3B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B5C-EAB1-4087-9453-76C2BC2E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785-4AAE-4505-8635-050752C9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F51-ED0F-463B-A61F-C362115D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402-9909-45AA-86C5-54E008A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A03-D71E-49C0-8783-A23D46D0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95FF-17BF-4D86-A75C-C37DDDED0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609A-DFC9-4711-A7DE-68FBE11046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270160"/>
            <a:ext cx="746748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Tahoma"/>
              </a:rPr>
              <a:t>Cell Membrane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Tahoma"/>
              </a:rPr>
              <a:t>Page 182</a:t>
            </a:r>
            <a:endParaRPr b="0" lang="en-US" sz="45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ater and the </a:t>
            </a:r>
            <a:br>
              <a:rPr sz="5000"/>
            </a:b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Cell Membrane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olar molecules (like water) are repelled by nonpolar molecules (like the cell membran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Water and the </a:t>
            </a:r>
            <a:br>
              <a:rPr sz="5000"/>
            </a:b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Cell Membrane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ell membrane i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selectivel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permeable        (aka semi-permeable) meaning it only allows certain molecules into or out of the 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343400" y="6094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CellMembrane" descr=""/>
          <p:cNvPicPr/>
          <p:nvPr/>
        </p:nvPicPr>
        <p:blipFill>
          <a:blip r:embed="rId2"/>
          <a:stretch/>
        </p:blipFill>
        <p:spPr>
          <a:xfrm>
            <a:off x="0" y="1525680"/>
            <a:ext cx="7991640" cy="533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1546200" y="1144440"/>
            <a:ext cx="344520" cy="190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83000" y="1144080"/>
            <a:ext cx="687600" cy="1809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014880" y="1335240"/>
            <a:ext cx="1289160" cy="209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267080"/>
            <a:ext cx="515880" cy="1714680"/>
          </a:xfrm>
          <a:custGeom>
            <a:avLst/>
            <a:gdLst>
              <a:gd name="textAreaLeft" fmla="*/ 0 w 515880"/>
              <a:gd name="textAreaRight" fmla="*/ 186120 w 51588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</a:rPr>
              <a:t>Channel Protei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act as passageways through which only certain molecules can pass into or out of the ce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533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k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ellMembrane" descr=""/>
          <p:cNvPicPr/>
          <p:nvPr/>
        </p:nvPicPr>
        <p:blipFill>
          <a:blip r:embed="rId2"/>
          <a:stretch/>
        </p:blipFill>
        <p:spPr>
          <a:xfrm>
            <a:off x="0" y="1525680"/>
            <a:ext cx="7991640" cy="533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546200" y="1144440"/>
            <a:ext cx="344520" cy="190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383000" y="1144080"/>
            <a:ext cx="687600" cy="1809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014880" y="1335240"/>
            <a:ext cx="1289160" cy="209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4267080"/>
            <a:ext cx="515880" cy="1714680"/>
          </a:xfrm>
          <a:custGeom>
            <a:avLst/>
            <a:gdLst>
              <a:gd name="textAreaLeft" fmla="*/ 0 w 515880"/>
              <a:gd name="textAreaRight" fmla="*/ 186120 w 51588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Marker Protei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“name tags” of cells, giving each an identity; allows your body to distinguish your cells from invading cel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324480" y="609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ep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CellMembrane" descr=""/>
          <p:cNvPicPr/>
          <p:nvPr/>
        </p:nvPicPr>
        <p:blipFill>
          <a:blip r:embed="rId2"/>
          <a:stretch/>
        </p:blipFill>
        <p:spPr>
          <a:xfrm>
            <a:off x="0" y="1525680"/>
            <a:ext cx="7991640" cy="5332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1546200" y="1144440"/>
            <a:ext cx="344520" cy="190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83000" y="1144080"/>
            <a:ext cx="687600" cy="1809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14880" y="1335240"/>
            <a:ext cx="1289160" cy="209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267080"/>
            <a:ext cx="515880" cy="1714680"/>
          </a:xfrm>
          <a:custGeom>
            <a:avLst/>
            <a:gdLst>
              <a:gd name="textAreaLeft" fmla="*/ 0 w 515880"/>
              <a:gd name="textAreaRight" fmla="*/ 186120 w 51588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Receptor Protein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receives information from the external environment and sends that info. into the ce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ellMembrane" descr=""/>
          <p:cNvPicPr/>
          <p:nvPr/>
        </p:nvPicPr>
        <p:blipFill>
          <a:blip r:embed="rId2"/>
          <a:stretch/>
        </p:blipFill>
        <p:spPr>
          <a:xfrm>
            <a:off x="0" y="1895400"/>
            <a:ext cx="6902280" cy="4124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1335240" y="1600200"/>
            <a:ext cx="298440" cy="1473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86120" y="1599840"/>
            <a:ext cx="592200" cy="1400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194440" y="1747800"/>
            <a:ext cx="1114200" cy="162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3160" y="4016520"/>
            <a:ext cx="446400" cy="1325520"/>
          </a:xfrm>
          <a:custGeom>
            <a:avLst/>
            <a:gdLst>
              <a:gd name="textAreaLeft" fmla="*/ 0 w 446400"/>
              <a:gd name="textAreaRight" fmla="*/ 161280 w 446400"/>
              <a:gd name="textAreaTop" fmla="*/ 34560 h 1325520"/>
              <a:gd name="textAreaBottom" fmla="*/ 1290960 h 13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657600"/>
            <a:ext cx="2209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o-lipi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ay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Tahoma"/>
                <a:ea typeface="Times New Roman"/>
              </a:rPr>
              <a:t>Phospholipid Bilayer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pecial type of lipid that makes up the cell membrane; the cell membrane is made of 2 lay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8:41:46Z</dcterms:created>
  <dc:creator>Robert Burke</dc:creator>
  <dc:description/>
  <dc:language>en-US</dc:language>
  <cp:lastModifiedBy>Plano ISD</cp:lastModifiedBy>
  <dcterms:modified xsi:type="dcterms:W3CDTF">2004-09-22T16:35:07Z</dcterms:modified>
  <cp:revision>25</cp:revision>
  <dc:subject/>
  <dc:title>Cell Membrane  &amp;</dc:title>
</cp:coreProperties>
</file>